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85600" y="812880"/>
            <a:ext cx="5784840" cy="4006800"/>
          </a:xfrm>
          <a:prstGeom prst="rect">
            <a:avLst/>
          </a:prstGeom>
          <a:solidFill>
            <a:srgbClr val="ffffff">
              <a:alpha val="75000"/>
            </a:srgbClr>
          </a:solidFill>
          <a:ln w="18000">
            <a:solidFill>
              <a:srgbClr val="000000"/>
            </a:solidFill>
            <a:round/>
          </a:ln>
        </p:spPr>
        <p:txBody>
          <a:bodyPr lIns="0" rIns="0" tIns="0" bIns="0" anchor="ctr">
            <a:noAutofit/>
          </a:bodyPr>
          <a:p>
            <a:pPr marL="820800" algn="ctr">
              <a:lnSpc>
                <a:spcPct val="93000"/>
              </a:lnSpc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E9E2C-DFB8-424C-B7C6-B01B65CB3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roits d'accès issus des droits du compte d'accès à la base de données: lecture seule (SELECT), mise à jour (UPDATE), ajout (INSERT). Pas de limitation possible au niveau des lignes des tables (ie. masquer des annotations privé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s d'historique car même si un client le gérait, l'utilisation d'un client ne le gérant pas suffirait à fausser l'historiq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cès concurrent: 2 annotateurs modifient la même entrée en même temps, le premier qui enregistrera croira l'avoir fait mais le second écrasera son travai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tibilité du client: un utilisateur peut se connecter directement à la base de données et l'altérer “à la mai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écurité réseau: oblige l'ouverture de la 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curiser pour éviter piratage ou mauvaise u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1D7-F955-4511-874C-D3D5E9BF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A6C-A4BD-4240-B61C-498A3451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300-273C-404C-8BC2-18F355E1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245-E756-4F5C-BE54-F2EE05D1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519-93A9-4912-AA83-26B85ADC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577-4CB3-4F55-9290-71A94948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07F-15D0-43F6-B509-A21DB6C3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4FA-8600-4DE9-9DC7-2E10B037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3BB-D2C7-4CAA-871C-A5449DBD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397-A76A-4D39-8D69-ACDC2CF8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6A0-41D6-46CA-A751-013D356C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66E-1924-45F8-9159-636BCD89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5977080"/>
            <a:ext cx="8915040" cy="554760"/>
            <a:chOff x="566640" y="5977080"/>
            <a:chExt cx="8915040" cy="554760"/>
          </a:xfrm>
        </p:grpSpPr>
        <p:grpSp>
          <p:nvGrpSpPr>
            <p:cNvPr id="1" name=""/>
            <p:cNvGrpSpPr/>
            <p:nvPr/>
          </p:nvGrpSpPr>
          <p:grpSpPr>
            <a:xfrm>
              <a:off x="566640" y="5977080"/>
              <a:ext cx="1486440" cy="554760"/>
              <a:chOff x="566640" y="5977080"/>
              <a:chExt cx="1486440" cy="554760"/>
            </a:xfrm>
          </p:grpSpPr>
          <p:sp>
            <p:nvSpPr>
              <p:cNvPr id="2" name=""/>
              <p:cNvSpPr/>
              <p:nvPr/>
            </p:nvSpPr>
            <p:spPr>
              <a:xfrm>
                <a:off x="566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614000">
                <a:off x="636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9452600">
                <a:off x="1344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245800">
                <a:off x="1123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5693000">
                <a:off x="1725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90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12615000">
                <a:off x="1466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2051640" y="5977080"/>
              <a:ext cx="1486440" cy="554760"/>
              <a:chOff x="2051640" y="5977080"/>
              <a:chExt cx="1486440" cy="554760"/>
            </a:xfrm>
          </p:grpSpPr>
          <p:sp>
            <p:nvSpPr>
              <p:cNvPr id="10" name=""/>
              <p:cNvSpPr/>
              <p:nvPr/>
            </p:nvSpPr>
            <p:spPr>
              <a:xfrm>
                <a:off x="2051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614000">
                <a:off x="2121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19452600">
                <a:off x="2829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2245800">
                <a:off x="2608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5693000">
                <a:off x="3210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475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2615000">
                <a:off x="2951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"/>
            <p:cNvGrpSpPr/>
            <p:nvPr/>
          </p:nvGrpSpPr>
          <p:grpSpPr>
            <a:xfrm>
              <a:off x="3538080" y="5977080"/>
              <a:ext cx="1486800" cy="554760"/>
              <a:chOff x="3538080" y="5977080"/>
              <a:chExt cx="1486800" cy="554760"/>
            </a:xfrm>
          </p:grpSpPr>
          <p:sp>
            <p:nvSpPr>
              <p:cNvPr id="18" name=""/>
              <p:cNvSpPr/>
              <p:nvPr/>
            </p:nvSpPr>
            <p:spPr>
              <a:xfrm>
                <a:off x="353808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614000">
                <a:off x="360828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452600">
                <a:off x="431640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245800">
                <a:off x="409500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15693000">
                <a:off x="469728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9625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12615000">
                <a:off x="443772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23440" y="5977080"/>
              <a:ext cx="1486800" cy="554760"/>
              <a:chOff x="5023440" y="5977080"/>
              <a:chExt cx="1486800" cy="554760"/>
            </a:xfrm>
          </p:grpSpPr>
          <p:sp>
            <p:nvSpPr>
              <p:cNvPr id="26" name=""/>
              <p:cNvSpPr/>
              <p:nvPr/>
            </p:nvSpPr>
            <p:spPr>
              <a:xfrm>
                <a:off x="5023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614000">
                <a:off x="5093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19452600">
                <a:off x="5801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2245800">
                <a:off x="5580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5693000">
                <a:off x="6182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447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12615000">
                <a:off x="5923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6508440" y="5977080"/>
              <a:ext cx="1486800" cy="554760"/>
              <a:chOff x="6508440" y="5977080"/>
              <a:chExt cx="1486800" cy="554760"/>
            </a:xfrm>
          </p:grpSpPr>
          <p:sp>
            <p:nvSpPr>
              <p:cNvPr id="34" name=""/>
              <p:cNvSpPr/>
              <p:nvPr/>
            </p:nvSpPr>
            <p:spPr>
              <a:xfrm>
                <a:off x="6508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614000">
                <a:off x="6578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9452600">
                <a:off x="7286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2245800">
                <a:off x="7065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5693000">
                <a:off x="7667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32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2615000">
                <a:off x="7408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7995240" y="5977080"/>
              <a:ext cx="1486440" cy="554760"/>
              <a:chOff x="7995240" y="5977080"/>
              <a:chExt cx="1486440" cy="554760"/>
            </a:xfrm>
          </p:grpSpPr>
          <p:sp>
            <p:nvSpPr>
              <p:cNvPr id="42" name=""/>
              <p:cNvSpPr/>
              <p:nvPr/>
            </p:nvSpPr>
            <p:spPr>
              <a:xfrm>
                <a:off x="79952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614000">
                <a:off x="80654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9452600">
                <a:off x="87735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245800">
                <a:off x="85521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5693000">
                <a:off x="91544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193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2615000">
                <a:off x="88948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0" y="0"/>
            <a:ext cx="9906120" cy="6858000"/>
          </a:xfrm>
          <a:custGeom>
            <a:avLst/>
            <a:gdLst/>
            <a:ahLst/>
            <a:rect l="l" t="t" r="r" b="b"/>
            <a:pathLst>
              <a:path w="28001" h="21001">
                <a:moveTo>
                  <a:pt x="0" y="21000"/>
                </a:moveTo>
                <a:cubicBezTo>
                  <a:pt x="0" y="19000"/>
                  <a:pt x="1500" y="8000"/>
                  <a:pt x="7500" y="6000"/>
                </a:cubicBezTo>
                <a:cubicBezTo>
                  <a:pt x="6000" y="6000"/>
                  <a:pt x="5000" y="6000"/>
                  <a:pt x="3000" y="7000"/>
                </a:cubicBezTo>
                <a:cubicBezTo>
                  <a:pt x="4590" y="4835"/>
                  <a:pt x="10120" y="4534"/>
                  <a:pt x="15500" y="4500"/>
                </a:cubicBezTo>
                <a:cubicBezTo>
                  <a:pt x="16037" y="4493"/>
                  <a:pt x="23833" y="4500"/>
                  <a:pt x="28000" y="4500"/>
                </a:cubicBezTo>
                <a:cubicBezTo>
                  <a:pt x="28000" y="3000"/>
                  <a:pt x="28000" y="0"/>
                  <a:pt x="28000" y="0"/>
                </a:cubicBezTo>
                <a:lnTo>
                  <a:pt x="0" y="0"/>
                </a:lnTo>
                <a:lnTo>
                  <a:pt x="0" y="2100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53320" y="0"/>
            <a:ext cx="215280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0560" cy="1181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95000" y="6369120"/>
            <a:ext cx="23050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387240" y="6369120"/>
            <a:ext cx="3140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7102080" y="6369120"/>
            <a:ext cx="23065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fld id="{71F2511C-C2DA-4D21-8A69-811916265DF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3440"/>
            <a:ext cx="10082160" cy="4081680"/>
          </a:xfrm>
          <a:custGeom>
            <a:avLst/>
            <a:gdLst/>
            <a:ahLst/>
            <a:rect l="l" t="t" r="r" b="b"/>
            <a:pathLst>
              <a:path w="28501" h="12502">
                <a:moveTo>
                  <a:pt x="6500" y="501"/>
                </a:moveTo>
                <a:cubicBezTo>
                  <a:pt x="8500" y="501"/>
                  <a:pt x="10136" y="423"/>
                  <a:pt x="8999" y="2001"/>
                </a:cubicBezTo>
                <a:cubicBezTo>
                  <a:pt x="10275" y="1254"/>
                  <a:pt x="11000" y="4500"/>
                  <a:pt x="13000" y="2001"/>
                </a:cubicBezTo>
                <a:cubicBezTo>
                  <a:pt x="12485" y="4912"/>
                  <a:pt x="16067" y="1005"/>
                  <a:pt x="16000" y="3001"/>
                </a:cubicBezTo>
                <a:cubicBezTo>
                  <a:pt x="18500" y="1501"/>
                  <a:pt x="19000" y="1501"/>
                  <a:pt x="17000" y="1"/>
                </a:cubicBezTo>
                <a:cubicBezTo>
                  <a:pt x="23000" y="1"/>
                  <a:pt x="20000" y="3001"/>
                  <a:pt x="23000" y="1"/>
                </a:cubicBezTo>
                <a:cubicBezTo>
                  <a:pt x="23500" y="3000"/>
                  <a:pt x="25500" y="0"/>
                  <a:pt x="27500" y="2001"/>
                </a:cubicBezTo>
                <a:cubicBezTo>
                  <a:pt x="26000" y="3001"/>
                  <a:pt x="28500" y="5001"/>
                  <a:pt x="27500" y="7501"/>
                </a:cubicBezTo>
                <a:cubicBezTo>
                  <a:pt x="25500" y="4500"/>
                  <a:pt x="25000" y="7501"/>
                  <a:pt x="27500" y="10501"/>
                </a:cubicBezTo>
                <a:cubicBezTo>
                  <a:pt x="26000" y="9000"/>
                  <a:pt x="19500" y="10001"/>
                  <a:pt x="18500" y="11001"/>
                </a:cubicBezTo>
                <a:cubicBezTo>
                  <a:pt x="19000" y="8501"/>
                  <a:pt x="14500" y="9001"/>
                  <a:pt x="10500" y="10501"/>
                </a:cubicBezTo>
                <a:cubicBezTo>
                  <a:pt x="12000" y="8001"/>
                  <a:pt x="6000" y="12501"/>
                  <a:pt x="5000" y="9000"/>
                </a:cubicBezTo>
                <a:cubicBezTo>
                  <a:pt x="3500" y="10501"/>
                  <a:pt x="1000" y="9501"/>
                  <a:pt x="1000" y="8001"/>
                </a:cubicBezTo>
                <a:cubicBezTo>
                  <a:pt x="2000" y="9001"/>
                  <a:pt x="2500" y="7000"/>
                  <a:pt x="1000" y="6001"/>
                </a:cubicBezTo>
                <a:cubicBezTo>
                  <a:pt x="2500" y="5501"/>
                  <a:pt x="0" y="4001"/>
                  <a:pt x="500" y="1001"/>
                </a:cubicBezTo>
                <a:cubicBezTo>
                  <a:pt x="1000" y="3001"/>
                  <a:pt x="2000" y="1000"/>
                  <a:pt x="5000" y="2501"/>
                </a:cubicBezTo>
                <a:cubicBezTo>
                  <a:pt x="3000" y="1"/>
                  <a:pt x="8000" y="2501"/>
                  <a:pt x="6500" y="501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7400" y="-81000"/>
            <a:ext cx="7859880" cy="6122880"/>
          </a:xfrm>
          <a:custGeom>
            <a:avLst/>
            <a:gdLst/>
            <a:ahLst/>
            <a:rect l="l" t="t" r="r" b="b"/>
            <a:pathLst>
              <a:path w="22217" h="18747">
                <a:moveTo>
                  <a:pt x="8816" y="2154"/>
                </a:moveTo>
                <a:cubicBezTo>
                  <a:pt x="11123" y="410"/>
                  <a:pt x="11158" y="1825"/>
                  <a:pt x="10022" y="3404"/>
                </a:cubicBezTo>
                <a:cubicBezTo>
                  <a:pt x="11297" y="2658"/>
                  <a:pt x="11494" y="3157"/>
                  <a:pt x="12492" y="747"/>
                </a:cubicBezTo>
                <a:cubicBezTo>
                  <a:pt x="11977" y="3659"/>
                  <a:pt x="13017" y="998"/>
                  <a:pt x="12950" y="2994"/>
                </a:cubicBezTo>
                <a:cubicBezTo>
                  <a:pt x="14052" y="0"/>
                  <a:pt x="15773" y="3167"/>
                  <a:pt x="14191" y="5659"/>
                </a:cubicBezTo>
                <a:cubicBezTo>
                  <a:pt x="16497" y="3917"/>
                  <a:pt x="16568" y="6745"/>
                  <a:pt x="18702" y="2757"/>
                </a:cubicBezTo>
                <a:cubicBezTo>
                  <a:pt x="19461" y="4921"/>
                  <a:pt x="18290" y="5085"/>
                  <a:pt x="19599" y="5754"/>
                </a:cubicBezTo>
                <a:cubicBezTo>
                  <a:pt x="21734" y="1764"/>
                  <a:pt x="22216" y="7090"/>
                  <a:pt x="20254" y="8501"/>
                </a:cubicBezTo>
                <a:cubicBezTo>
                  <a:pt x="20323" y="6503"/>
                  <a:pt x="18171" y="11747"/>
                  <a:pt x="19670" y="14747"/>
                </a:cubicBezTo>
                <a:cubicBezTo>
                  <a:pt x="18170" y="13246"/>
                  <a:pt x="18248" y="16528"/>
                  <a:pt x="17171" y="17247"/>
                </a:cubicBezTo>
                <a:cubicBezTo>
                  <a:pt x="17171" y="14247"/>
                  <a:pt x="11408" y="17392"/>
                  <a:pt x="9170" y="18746"/>
                </a:cubicBezTo>
                <a:cubicBezTo>
                  <a:pt x="10171" y="16247"/>
                  <a:pt x="5035" y="17826"/>
                  <a:pt x="6170" y="16246"/>
                </a:cubicBezTo>
                <a:cubicBezTo>
                  <a:pt x="4897" y="16993"/>
                  <a:pt x="4136" y="16746"/>
                  <a:pt x="3171" y="15747"/>
                </a:cubicBezTo>
                <a:cubicBezTo>
                  <a:pt x="2551" y="14414"/>
                  <a:pt x="5169" y="12747"/>
                  <a:pt x="3171" y="11746"/>
                </a:cubicBezTo>
                <a:cubicBezTo>
                  <a:pt x="8171" y="8247"/>
                  <a:pt x="0" y="11620"/>
                  <a:pt x="1825" y="9378"/>
                </a:cubicBezTo>
                <a:cubicBezTo>
                  <a:pt x="3203" y="8049"/>
                  <a:pt x="6819" y="6974"/>
                  <a:pt x="7024" y="5811"/>
                </a:cubicBezTo>
                <a:cubicBezTo>
                  <a:pt x="4236" y="7053"/>
                  <a:pt x="8816" y="2154"/>
                  <a:pt x="8816" y="2154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480" y="326880"/>
            <a:ext cx="9375480" cy="6205680"/>
          </a:xfrm>
          <a:custGeom>
            <a:avLst/>
            <a:gdLst/>
            <a:ahLst/>
            <a:rect l="l" t="t" r="r" b="b"/>
            <a:pathLst>
              <a:path w="26501" h="19001">
                <a:moveTo>
                  <a:pt x="10000" y="19000"/>
                </a:moveTo>
                <a:cubicBezTo>
                  <a:pt x="7000" y="18500"/>
                  <a:pt x="8000" y="17000"/>
                  <a:pt x="10000" y="16500"/>
                </a:cubicBezTo>
                <a:cubicBezTo>
                  <a:pt x="8500" y="16000"/>
                  <a:pt x="8500" y="16000"/>
                  <a:pt x="6000" y="17500"/>
                </a:cubicBezTo>
                <a:cubicBezTo>
                  <a:pt x="8500" y="15000"/>
                  <a:pt x="6000" y="15000"/>
                  <a:pt x="7500" y="13000"/>
                </a:cubicBezTo>
                <a:cubicBezTo>
                  <a:pt x="4500" y="15000"/>
                  <a:pt x="6500" y="10000"/>
                  <a:pt x="9500" y="9000"/>
                </a:cubicBezTo>
                <a:cubicBezTo>
                  <a:pt x="6500" y="8500"/>
                  <a:pt x="7000" y="6000"/>
                  <a:pt x="2500" y="8000"/>
                </a:cubicBezTo>
                <a:cubicBezTo>
                  <a:pt x="3500" y="5000"/>
                  <a:pt x="5000" y="5500"/>
                  <a:pt x="4500" y="3500"/>
                </a:cubicBezTo>
                <a:cubicBezTo>
                  <a:pt x="0" y="5500"/>
                  <a:pt x="3500" y="0"/>
                  <a:pt x="6000" y="500"/>
                </a:cubicBezTo>
                <a:cubicBezTo>
                  <a:pt x="4500" y="2500"/>
                  <a:pt x="12500" y="4000"/>
                  <a:pt x="13500" y="2500"/>
                </a:cubicBezTo>
                <a:cubicBezTo>
                  <a:pt x="14000" y="4500"/>
                  <a:pt x="20667" y="667"/>
                  <a:pt x="22000" y="1000"/>
                </a:cubicBezTo>
                <a:cubicBezTo>
                  <a:pt x="21000" y="3000"/>
                  <a:pt x="23833" y="4667"/>
                  <a:pt x="26500" y="5500"/>
                </a:cubicBezTo>
                <a:cubicBezTo>
                  <a:pt x="25667" y="6833"/>
                  <a:pt x="25500" y="9000"/>
                  <a:pt x="23500" y="9500"/>
                </a:cubicBezTo>
                <a:cubicBezTo>
                  <a:pt x="25000" y="10000"/>
                  <a:pt x="25500" y="11500"/>
                  <a:pt x="25500" y="13500"/>
                </a:cubicBezTo>
                <a:cubicBezTo>
                  <a:pt x="25000" y="15500"/>
                  <a:pt x="23000" y="14000"/>
                  <a:pt x="22500" y="15000"/>
                </a:cubicBezTo>
                <a:cubicBezTo>
                  <a:pt x="24500" y="15500"/>
                  <a:pt x="23500" y="18000"/>
                  <a:pt x="20500" y="18500"/>
                </a:cubicBezTo>
                <a:cubicBezTo>
                  <a:pt x="18500" y="18500"/>
                  <a:pt x="15500" y="16000"/>
                  <a:pt x="14500" y="17000"/>
                </a:cubicBezTo>
                <a:cubicBezTo>
                  <a:pt x="17500" y="18500"/>
                  <a:pt x="10000" y="19000"/>
                  <a:pt x="10000" y="19000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3880" y="3755880"/>
            <a:ext cx="1497240" cy="166716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14840" y="115920"/>
            <a:ext cx="2152440" cy="102708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sp>
        <p:nvSpPr>
          <p:cNvPr id="98" name="PlaceHolder 1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36480" y="1438200"/>
            <a:ext cx="8632800" cy="177480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04840" indent="0" algn="ct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0968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61596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2080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6480" y="1141200"/>
            <a:ext cx="8632800" cy="236988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GMOD Chado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to a Model-View-Controller (MVC) architecture?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04800" y="3755520"/>
            <a:ext cx="6933960" cy="2156040"/>
          </a:xfrm>
          <a:prstGeom prst="rect">
            <a:avLst/>
          </a:prstGeom>
          <a:solidFill>
            <a:srgbClr val="f0ffba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txBody>
          <a:bodyPr lIns="86760" rIns="86760" tIns="43560" bIns="4356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Valentin GUIGN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ID, DAP, B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RAD Montpell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ular: an external module will authenticate us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QL Queries will be parsed and mod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queries may be den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CHADO Audit “modul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3. Conclus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 fontScale="97000"/>
          </a:bodyPr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new communication protocol must be set up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apped using HTTP(S), similar to SQL synt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client side-modifica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Apollo, Artemis, GBrowse …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ly a kind of Java DB driver just like the current 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solution should be submitted to the GMOD 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56840" y="2514600"/>
            <a:ext cx="3389760" cy="182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_feature_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nnotato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level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0560" y="1208160"/>
            <a:ext cx="3609720" cy="471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archar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regist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logi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t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_login_cou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ny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4802040"/>
            <a:ext cx="311472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eature (from Chado DB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86080" y="5127480"/>
            <a:ext cx="275904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group_li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roup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3440" y="358920"/>
            <a:ext cx="3397320" cy="25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_ke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1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expi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537840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User Databas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0"/>
            <a:endCxn id="181" idx="2"/>
          </p:cNvCxnSpPr>
          <p:nvPr/>
        </p:nvCxnSpPr>
        <p:spPr>
          <a:xfrm flipV="1">
            <a:off x="2865240" y="4592160"/>
            <a:ext cx="108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7" name=""/>
          <p:cNvCxnSpPr>
            <a:stCxn id="180" idx="1"/>
            <a:endCxn id="181" idx="3"/>
          </p:cNvCxnSpPr>
          <p:nvPr/>
        </p:nvCxnSpPr>
        <p:spPr>
          <a:xfrm flipH="1" flipV="1">
            <a:off x="4669560" y="2899800"/>
            <a:ext cx="1343880" cy="495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8" name=""/>
          <p:cNvCxnSpPr>
            <a:stCxn id="182" idx="0"/>
            <a:endCxn id="180" idx="2"/>
          </p:cNvCxnSpPr>
          <p:nvPr/>
        </p:nvCxnSpPr>
        <p:spPr>
          <a:xfrm flipH="1" flipV="1">
            <a:off x="7551000" y="4274640"/>
            <a:ext cx="1980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9" name=""/>
          <p:cNvCxnSpPr>
            <a:stCxn id="184" idx="1"/>
            <a:endCxn id="181" idx="3"/>
          </p:cNvCxnSpPr>
          <p:nvPr/>
        </p:nvCxnSpPr>
        <p:spPr>
          <a:xfrm flipH="1">
            <a:off x="4669560" y="1355400"/>
            <a:ext cx="1343880" cy="154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190" name=""/>
          <p:cNvSpPr/>
          <p:nvPr/>
        </p:nvSpPr>
        <p:spPr>
          <a:xfrm>
            <a:off x="7644240" y="42782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9000" y="460368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7320" y="31021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9280" y="45385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47320" y="21877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03560" y="34941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3960" y="48657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03560" y="10778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226200" y="133992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960" y="440856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6200" y="34941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02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0" name=""/>
          <p:cNvCxnSpPr>
            <a:stCxn id="202" idx="3"/>
            <a:endCxn id="198" idx="1"/>
          </p:cNvCxnSpPr>
          <p:nvPr/>
        </p:nvCxnSpPr>
        <p:spPr>
          <a:xfrm>
            <a:off x="2193480" y="189396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1" name=""/>
          <p:cNvCxnSpPr>
            <a:stCxn id="198" idx="2"/>
            <a:endCxn id="200" idx="0"/>
          </p:cNvCxnSpPr>
          <p:nvPr/>
        </p:nvCxnSpPr>
        <p:spPr>
          <a:xfrm>
            <a:off x="7464240" y="244944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2" name=""/>
          <p:cNvCxnSpPr>
            <a:stCxn id="200" idx="1"/>
            <a:endCxn id="199" idx="3"/>
          </p:cNvCxnSpPr>
          <p:nvPr/>
        </p:nvCxnSpPr>
        <p:spPr>
          <a:xfrm flipH="1">
            <a:off x="3255120" y="404964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3" name=""/>
          <p:cNvCxnSpPr>
            <a:stCxn id="199" idx="3"/>
            <a:endCxn id="200" idx="1"/>
          </p:cNvCxnSpPr>
          <p:nvPr/>
        </p:nvCxnSpPr>
        <p:spPr>
          <a:xfrm flipV="1">
            <a:off x="3255480" y="404928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4" name=""/>
          <p:cNvCxnSpPr>
            <a:stCxn id="200" idx="0"/>
            <a:endCxn id="198" idx="2"/>
          </p:cNvCxnSpPr>
          <p:nvPr/>
        </p:nvCxnSpPr>
        <p:spPr>
          <a:xfrm flipV="1">
            <a:off x="7464240" y="244908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5" name=""/>
          <p:cNvCxnSpPr>
            <a:stCxn id="198" idx="1"/>
            <a:endCxn id="202" idx="3"/>
          </p:cNvCxnSpPr>
          <p:nvPr/>
        </p:nvCxnSpPr>
        <p:spPr>
          <a:xfrm flipH="1" flipV="1">
            <a:off x="2193120" y="189360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16" name=""/>
          <p:cNvSpPr/>
          <p:nvPr/>
        </p:nvSpPr>
        <p:spPr>
          <a:xfrm>
            <a:off x="2596680" y="1535040"/>
            <a:ext cx="2774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01760" y="2644920"/>
            <a:ext cx="1847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 C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93680" y="4802040"/>
            <a:ext cx="231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user data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SQ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9640" y="4148280"/>
            <a:ext cx="93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4440" y="4670280"/>
            <a:ext cx="21996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unt statu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failure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trie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eate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40960" y="270972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02080" y="199224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Authentication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18080" y="265428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032360" y="225432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27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29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35" name=""/>
          <p:cNvCxnSpPr>
            <a:stCxn id="227" idx="3"/>
            <a:endCxn id="225" idx="1"/>
          </p:cNvCxnSpPr>
          <p:nvPr/>
        </p:nvCxnSpPr>
        <p:spPr>
          <a:xfrm>
            <a:off x="2193480" y="189396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36" name=""/>
          <p:cNvCxnSpPr>
            <a:stCxn id="225" idx="2"/>
            <a:endCxn id="237" idx="0"/>
          </p:cNvCxnSpPr>
          <p:nvPr/>
        </p:nvCxnSpPr>
        <p:spPr>
          <a:xfrm>
            <a:off x="5272200" y="336348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00640" y="1860480"/>
            <a:ext cx="2928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ID + Query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6200" y="434340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34720" y="3560760"/>
            <a:ext cx="133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tch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02680" y="3886200"/>
            <a:ext cx="168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6440" y="2449440"/>
            <a:ext cx="16128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ify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dit (option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44085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7" idx="0"/>
            <a:endCxn id="225" idx="2"/>
          </p:cNvCxnSpPr>
          <p:nvPr/>
        </p:nvCxnSpPr>
        <p:spPr>
          <a:xfrm flipH="1" flipV="1">
            <a:off x="5271840" y="336312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5" name=""/>
          <p:cNvCxnSpPr>
            <a:stCxn id="225" idx="2"/>
            <a:endCxn id="243" idx="0"/>
          </p:cNvCxnSpPr>
          <p:nvPr/>
        </p:nvCxnSpPr>
        <p:spPr>
          <a:xfrm flipH="1">
            <a:off x="2441160" y="336384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46" name=""/>
          <p:cNvSpPr/>
          <p:nvPr/>
        </p:nvSpPr>
        <p:spPr>
          <a:xfrm>
            <a:off x="4056840" y="3886200"/>
            <a:ext cx="127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ubmit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72560" y="356076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3" idx="0"/>
            <a:endCxn id="225" idx="2"/>
          </p:cNvCxnSpPr>
          <p:nvPr/>
        </p:nvCxnSpPr>
        <p:spPr>
          <a:xfrm flipV="1">
            <a:off x="2441160" y="336348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9" name=""/>
          <p:cNvCxnSpPr>
            <a:stCxn id="225" idx="1"/>
            <a:endCxn id="227" idx="3"/>
          </p:cNvCxnSpPr>
          <p:nvPr/>
        </p:nvCxnSpPr>
        <p:spPr>
          <a:xfrm flipH="1" flipV="1">
            <a:off x="2193120" y="189360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50" name=""/>
          <p:cNvSpPr/>
          <p:nvPr/>
        </p:nvSpPr>
        <p:spPr>
          <a:xfrm>
            <a:off x="2218680" y="264492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46800" y="212256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3000" y="3036960"/>
            <a:ext cx="5886000" cy="228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Modified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… FROM … feature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.feature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fa.feature_id FROM feature_access f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fa.annotator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'UserID', 'Group1ID', 'Group2ID'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a.access &gt;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 …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59360" y="1730520"/>
            <a:ext cx="3507480" cy="8596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Source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LECT … FROM … feature 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WHERE … …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Modificat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11760" y="4343400"/>
            <a:ext cx="3397320" cy="260280"/>
          </a:xfrm>
          <a:prstGeom prst="rect">
            <a:avLst/>
          </a:prstGeom>
          <a:noFill/>
          <a:ln w="28440">
            <a:solidFill>
              <a:srgbClr val="004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438960" y="2774520"/>
            <a:ext cx="919080" cy="1568520"/>
          </a:xfrm>
          <a:prstGeom prst="line">
            <a:avLst/>
          </a:prstGeom>
          <a:ln w="28440">
            <a:solidFill>
              <a:srgbClr val="004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67320" y="1927080"/>
            <a:ext cx="3157560" cy="85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user_sess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set at session creation ti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9000"/>
            <a:ext cx="891540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4127400"/>
                <a:tab algn="l" pos="4813200"/>
                <a:tab algn="l" pos="5504040"/>
                <a:tab algn="l" pos="6191280"/>
                <a:tab algn="l" pos="6875640"/>
                <a:tab algn="l" pos="7564320"/>
                <a:tab algn="l" pos="825516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7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Architec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s have direct access to the dat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44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51" idx="1"/>
          </p:cNvCxnSpPr>
          <p:nvPr/>
        </p:nvCxnSpPr>
        <p:spPr>
          <a:xfrm>
            <a:off x="3466800" y="3722400"/>
            <a:ext cx="2477160" cy="10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(DB): R or R/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ion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9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3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1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MVC Architectur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V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del-View-Controll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T.Reenskaug,1979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data stored + the read/write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PostgreSQL or MySQ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HADO part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user inte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GBrowse, Apollo, Artemis,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andles user actions →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missing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12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400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 flipV="1">
            <a:off x="2832120" y="3253680"/>
            <a:ext cx="1070640" cy="118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164" name=""/>
          <p:cNvSpPr/>
          <p:nvPr/>
        </p:nvSpPr>
        <p:spPr>
          <a:xfrm>
            <a:off x="3902040" y="2111400"/>
            <a:ext cx="2122560" cy="22860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63">
                <a:moveTo>
                  <a:pt x="15" y="0"/>
                </a:moveTo>
                <a:arcTo wR="15" hR="15" stAng="16200000" swAng="-5400000"/>
                <a:lnTo>
                  <a:pt x="0" y="23248"/>
                </a:lnTo>
                <a:arcTo wR="15" hR="15" stAng="10800000" swAng="-5400000"/>
                <a:lnTo>
                  <a:pt x="21585" y="2326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roll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 layer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s web serv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4" idx="3"/>
          </p:cNvCxnSpPr>
          <p:nvPr/>
        </p:nvCxnSpPr>
        <p:spPr>
          <a:xfrm>
            <a:off x="6024600" y="3254040"/>
            <a:ext cx="1070640" cy="1332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as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queries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ntegrity checker” / “annotation inspect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rnal DB access will be clo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ocol will include version che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 GUIGNON</dc:creator>
  <dc:description/>
  <dc:language>en-US</dc:language>
  <cp:lastModifiedBy>sidibe-bocs</cp:lastModifiedBy>
  <dcterms:modified xsi:type="dcterms:W3CDTF">2009-01-30T17:55:23Z</dcterms:modified>
  <cp:revision>58</cp:revision>
  <dc:subject/>
  <dc:title>GMOD Chado: to a Model-View-Controller (MVC) architecture?</dc:title>
</cp:coreProperties>
</file>